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922-634B-46A6-8F65-2ADC5F67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5E5-D442-4FC8-AE09-E001F3E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6A8-9157-4BF8-9685-8B52A179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687-42C4-49A1-A442-9D7B64E2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23B-CADA-484B-83EC-B5202AEE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5FC-90EB-4771-BE0F-F15CE4F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E4C-4BFA-486F-BC93-23723068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2FA-3AC5-41CB-BBAC-766456DB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373-1653-4E4E-9E2D-43C5EC5D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F48-0E24-48BA-A79C-2F18D61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A9D-FCF4-4212-A726-1E2C0B3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7F1-5FBD-4C54-A386-637ABBE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CCD8-A593-4982-87AF-DC45824A2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link211.htm" TargetMode="External"/><Relationship Id="rId2" Type="http://schemas.openxmlformats.org/officeDocument/2006/relationships/hyperlink" Target="http://www.chemistry.ssu.samara.ru/chem4/o26.htm#Slide 1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1/P6_4332.htm#Slide 1" TargetMode="External"/><Relationship Id="rId2" Type="http://schemas.openxmlformats.org/officeDocument/2006/relationships/hyperlink" Target="http://www.chemistry.ssu.samara.ru/chem1/P6_4331.htm#Slide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o341_1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o341_2.htm" TargetMode="External"/><Relationship Id="rId2" Type="http://schemas.openxmlformats.org/officeDocument/2006/relationships/hyperlink" Target="http://www.chemistry.ssu.samara.ru/chem4/o341_3.htm" TargetMode="External"/><Relationship Id="rId3" Type="http://schemas.openxmlformats.org/officeDocument/2006/relationships/hyperlink" Target="http://www.chemistry.ssu.samara.ru/chem1/butlerov.ht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o254_1.htm" TargetMode="External"/><Relationship Id="rId2" Type="http://schemas.openxmlformats.org/officeDocument/2006/relationships/hyperlink" Target="http://www.chemistry.ssu.samara.ru/chem4/o343_4.htm" TargetMode="External"/><Relationship Id="rId3" Type="http://schemas.openxmlformats.org/officeDocument/2006/relationships/hyperlink" Target="http://www.chemistry.ssu.samara.ru/chem4/o254_11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4/hm26_2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ьдегидов и кет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но-кротоновая конденсация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лекуле альдегида или кетона на a-атоме углерода (соседнем с карбонильной группой) под влияни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а карбонила понижена электронная плотность. Это вызывает поляризацию связ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 и способствует отщеплению атома водорода в форме протона (H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В частности, происходящий под действием оснований отрыв протона от a-углеродного атома, приводит к образованию соответствующего карбанио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е карбанионы могут играть роль нуклеофилов по отношению к карбонильной группе другой молекулы альдегида или кетона. Поэтому оказываются возможными реакции, в которых одна молекула карбонильного соединения (в форме карбаниона) присоединяется к C=O-группе другого карбонильного соединения. Например, уксусный альдегид на холоду при действии разбавленных растворов щелочей превращается 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при проведении реакции в более жестких условиях (при нагревании) альдоль дегидратируется с образовани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нового альдеги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кое отщепление воды от альдоля объясняется подвижностью водородного атома в a-звене, на которое действуют -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ы двух групп (ОН и С=О). Конденсацию альдегидов или кетонов, протекающую по первому типу, называю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ной конденсаци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ольным присоединени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по второму типу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новой конденсаци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первые эти реакции осуществили одновременно (1872 г.) и независимо друг от друга А.П. Бородин и Ш.А. Вюр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 Реакции восстановления альдегидов и кетонов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ьдегиды при взаимодействии с водородом в присутствии Ni-катализатора образуют первичные спирты, кетоны - вторичны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лабораторных условиях для восстановления альдегидов и кетонов используется алюмогидрид лития LiAl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 Реакции окисления альдегидов и кетон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ьдегиды очень легко окисляются в соответствующие карбоновые кислоты под действием даже таких мягких окислителей, как оксид серебра и гидроксид меди (II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кция "серебрянного зеркала" – окисление аммиачным раствором оксида серебра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–CH=O + 2[Ag(N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]OH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RCOOH + 2Ag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¯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4N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кисление гидроксидом меди (II) в составе комплекса с винной кислотой или с аммиаком (синий цвет) с образованием красно-кирпичного осадка Cu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O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R–CH=O + 2Cu(OH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/винная кислота ® RCOOH + Cu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¯ + 2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R–CH=O + 2[Cu(N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](OH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® RCOOH + Cu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¯ + 4N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ые реакции являются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качественны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на альдегидную группу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етоны не вступают в эти реакции. Они окисляются с трудом лишь при действии более сильных окислителей и повышенной температуре. При этом происходит разрыв С–С-связей (соседних с карбонилом) и образование смеси карбоновых кислот меньшей молекулярной масс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альдегидов и кето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ение спиртов. Первичные спирты при окислении образуют альдегиды, которые затем легко окисляются до карбоновых кисло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предотвратить превращение альдегида в кислоту, его отгоняют в ходе реакции (т. кип. альдегида &lt; т. кип. кислоты). При окислении вторичных спиртов образуются кетон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гидрирование первичных спиртов. Реакцию проводят, пропуская пары спирта над нагретым до 200-300°С катализатором, в качестве которого используются медь, никель, кобальт и др.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°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kat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R–CН=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альдегид) 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дратация алкинов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еакция Кучер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Присоединение воды к ацетилену в присутствии солей ртути (II) приводит к образованию ацетальдегид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тоны получают при гидратации других гомологов ряда алкин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ение алкенов (катализаторы - хлориды Pd и Cu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т способ более перспективен, чем гидратация алкинов, при которой используются токсичные ртутные катализато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умольный спосо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учения ацетона (наряду с фенол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ьдегиды получают гидролизом дигалогенопроизводных углеводородов, однако только тех, у которых оба атома галогена расположены у одного из концевых атомов углерода. При действии воды на дигалогеналкил в щелочной или кислой среде реакция его гидролиза проходит стадию образования двухатомного спирта, содержащего две гидроксильных группы у одного атома углерода. Такие спирты вследствие своей неустойчивости в момент образования теряют воду и образуют альдегид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СН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1,1- дихлорпропан) + 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 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СН(ОН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](1,1-пропандиол) + 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(пропаналь)+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7.    Кетоны получают гидролизом дигалогенопроизводных углеводородов, содержащих оба атома галогена у одного из средних в цепи углеродных атом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Cl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2,2- дихлорпропан) + 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 [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-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] (2,2- пропандиол) + 2HC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¯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О–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диметилкетон) + 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Кетоны получают, кроме того, пиролизом кальциевых солей карбоновых кислот при их нагревании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СН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О)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a (уксуснокислый кальций)  – </a:t>
            </a:r>
            <a:r>
              <a:rPr b="1" lang="ru-RU" sz="17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 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О–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(ацетон)+ CaCO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Химические свойства альдегидов и кетон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томы углерода и кислорода в карбонильной группе находятся в состоянии sp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гибридизации. Углерод своими sp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гибридными орбиталями образует 3 s-связи (одна из них – связь С–О), которые располагаются в одной плоскости под углом около 120° друг к другу. Одна из трех sp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орбиталей кислорода участвует в s-связи С–О, две другие содержат неподеленнные электронные пары. p-Связь образована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электронами атомов углерода и кислор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вязь С=О сильно полярна. Ее дипольный момент (2,6-2,8D) значительно выше, чем у связи С–О в спиртах (0,70D). Электроны кратной связи С=О, в особенности более подвижные p-электроны, смещены к электроотрицательному атому кислорода, что приводит к появлению на нем частичного отрицательного заряда. Карбонильный углерод приобретает частичный положительный заряд. Поэтому углерод подвергается атаке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нуклеофильны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(с отрицательным зарядом) реагентами, а кислород -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электрофильны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в том числе Н</a:t>
            </a:r>
            <a:r>
              <a:rPr b="0" lang="ru-RU" sz="17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ецифика строения карбонильной группы определяет реакции альдегидов и кетон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ля карбонильных соединений характерны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еакц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различных типов:  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присоединение по карбонильной группе;  полимеризация; конденсация; восстановление и окисление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Большинство реакций альдегидов и кетонов протекает по механизму нуклеофильного присоединения по связи С=О. Реакционная способность в таких реакциях уменьшается от альдегидов к кетона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рисоединения по карбонильной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большинства реагентов по двойной связи С=О происходит как ионная реакция по механизму нуклеофильного присоеди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соединение циановодородной (синильной) кислоты HC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 реакция используется для удлинения углеродной цепи, а также для получения a-гидроксикислот R-CH(COOH)OH по реакц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-CH(CN)OH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R-CH(COOH)OH +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соединение спиртов с образованием полуацеталей (в присутствии кислоты или основания как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атализатор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уаце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единения, в которых атом углерода связан с гидроксильной и алкоксильной   (-OR) группами. Взаимодействие полуацеталя с еще одной молекулой спирта (в присутствии кислоты) приводит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щени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уацетального гидроксила на алкоксильную группу OR' и образованию ацетал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це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единения, в которых атом углерода связан с двумя алкоксильными (-OR) группами. Образование ацеталей из полуацеталей подобно реакции получения простых эфиров при межмолекулярной дегидратации спиртов. Реакции карбонильных соединений со спиртами играют важную роль в химии углев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Присоединение гидросульфита натри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ает кристаллические вещества, обычно называемые гидросульфитными производными альдегидов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НО+ HSO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Na ® 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–CН(ОН)–SO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(гидросульфитное производное уксусного альдегида)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помянутые производные легко гидролизуются в любых средах, приводя к исходному карбонильному соединению. Так, при нагревании с раствором соды гидросульфитного производного уксусного альдегида образуется собственно уксусный альдеги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–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–S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a + N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2C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–C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+ 2N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ое свойство используется для очистки альдегидов и выделения их из смес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исоединение реактива Гриньяра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 (R–MgHal) к альдегидам и кетонам с образованием спиртов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соединение R-MgHal к формальдегиду приводит к образованию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ичных спи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.   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заимодействие с аммиаком и его производными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ммиак и его производные N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X реагируют с альдегидами и кетонами в две стадии. Сначала образуются продукты нуклеофильного присоединения, которые затем вследствие неустойчивости отщепляют воду. Поэтому данный процесс в целом классифицируют как реакцию присоединения-отщепл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 взаимодействии с аммиаком образуются имины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кция альдегидов и кетонов с аммиаком может сопровождаться циклизацией продуктов присоединения. Например, взаимодействие аммиака с формальдегидом, как показал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.М. Бутлер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приводит к образованию гексаметилентетрамина, известного как медицинский препарат уротропи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лимеризации карбонильных со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меризация - частный случай реакций присоединения - характерна в основном для альдегидов. Например, при стоянии 40% водного раствора формальдегида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формал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в виде белого осадка образуется полимер формальдегида с невысокой молекулярной массой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арафор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=O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HO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(O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n-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 ( n = 7, 8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е полимеров можно рассматривать как результат нуклеофильной атаки атомом кислорода одной молекулы альдегида карбонильного атома углерода другой молеку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меры альдегидов довольно неустойчивы: в кислой среде они гидролизуются с образованием исходных продуктов. При взаимодействии молекул альдегидов возможно также образование циклических соединений. Например, тримеризация формальдегида приводит к образованию триоксана (триоксиметилена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иоксан используется для получения полиформальдегида (полиоксиметилена) с высокой молекулярной массой, обладающего повышенной стабильностью и механической прочност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 Реакции конденсации карбонильных соединен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нденсацией называется реакция, приводящая к усложнению углеродного скелета и возникновению новой углеродной связи, причем из двух или более относительно простых молекул образуется новая, более сложная молекула. Обычно в результате реакции конденсации выделяется молекула воды или другого вещества. Конденсация, приводящая к образованию высокомолекулярных соединений, называется реакцией поликонденсаци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Конденсация с фенолам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Практическое значение имеет реакция формальдегида с фенолом (катализаторы - кислоты или основания)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льнейшее взаимодействие с другими молекулами формальдегида и фенола приводит к образованию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енолоформальдегидных смол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Конденсация формальдегида с карбамидом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(мочевиной) (N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C=O используется для получения 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арбамидных (мочевиноформальдегидных) смол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Фенолформальдегидные смолы [-C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(OH)-CH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-]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– продукты поликонденсации фенола C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OH с формальдегидом C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=O. Взаимодействие фенола с формальдегидом идет по </a:t>
            </a:r>
            <a:r>
              <a:rPr b="0" lang="ru-RU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хеме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оль реакционноспособных функциональных групп в этих соединениях играют:  в феноле – три С-Н-связи в орто- и пара-положениях (легче идет замещение в двух орто-положениях);  в формальдегиде – двойная связь С=О, способная к присоединению по атомам С и 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Это определяет возможность образования цепных макромолекул по схеме поликонденсации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я проводится в присутствии кислых (соляная, серная, щавелевая и другие кислоты) или щелочных катализаторов (аммиак, гидроксид натрия, гидроксид бария).  При избытке фенола и кислом катализаторе образуется линейный полимер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ола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цепь которого содержит приблизительно 10 фенольных остатков, соединенных между собой метиленовыми (-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) мостикам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ола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термопластичные полимеры, которые сами по себе не способны переходить в неплавкое и нерастворимое состояние. Но они могут превращаться в трехмерный полимер при нагревании их с дополнительной порцией формальдегида в щелочной среде. При использовании щелочных катализаторов и избытка альдегида в начальной стадии поликонденсации получаются линейные цеп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з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дополнительном нагревании эти цепи "сшиваются" между собой за счет групп -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OH, находящихся в пара-положении фенольного кольца, с образованием трехмерного полимера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з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резолы являютс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рмореактивн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имерами. Фенолоформальдегидные полимеры применяются в виде прессовочных композиций с различными наполнителями, а также в производстве лаков и кле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8:13:19Z</dcterms:created>
  <dc:creator>Андрей</dc:creator>
  <dc:description/>
  <dc:language>en-US</dc:language>
  <cp:lastModifiedBy>Андрей</cp:lastModifiedBy>
  <dcterms:modified xsi:type="dcterms:W3CDTF">2020-08-27T08:28:37Z</dcterms:modified>
  <cp:revision>11</cp:revision>
  <dc:subject/>
  <dc:title>Получение и свойства альдегидов и кетонов</dc:title>
</cp:coreProperties>
</file>